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639981"/>
        <c:axId val="71633975"/>
      </c:barChart>
      <c:catAx>
        <c:axId val="776399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33975"/>
        <c:crosses val="autoZero"/>
        <c:auto val="1"/>
        <c:lblAlgn val="ctr"/>
        <c:lblOffset val="100"/>
        <c:noMultiLvlLbl val="0"/>
      </c:catAx>
      <c:valAx>
        <c:axId val="71633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6399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681-B314-47E6-BF71-E518A1ED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234F-00F2-4C54-B9EF-496AED34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8C8-2F02-436F-8C5C-2A9F56972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B663-0BD5-47F1-B65F-CB94DF63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1312-52D2-4D58-B5EC-2F651186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450-FE6F-4114-9465-5A835F36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218-9672-4204-8ECD-4D1860E7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1036-5ECE-4917-A1DD-24F3AD81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F01B-D0EF-48A0-8A9A-0E6358B6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CA0A-99E9-4E8D-92F4-65D4643C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08E8-2468-474A-AF3F-1D719A10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3B94-E75F-4151-A543-32F44B59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E2BDF-F99F-4EA0-9C93-81B8CDB574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