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13869"/>
        <c:axId val="16184676"/>
      </c:barChart>
      <c:catAx>
        <c:axId val="84013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84676"/>
        <c:crosses val="autoZero"/>
        <c:auto val="1"/>
        <c:lblAlgn val="ctr"/>
        <c:lblOffset val="100"/>
        <c:noMultiLvlLbl val="0"/>
      </c:catAx>
      <c:valAx>
        <c:axId val="161846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13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958-FDAB-4C77-A11A-76662A63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BE6-ADA2-4437-8945-4AFCE345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53E-BAF2-4634-8C7A-2D10406E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A2F-BC7A-4DCA-B934-D1E4E5A3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B4F9-446A-479A-8D73-04636ABB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4FD-98E2-4542-8C7F-F7F68CD4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B09-2545-44C6-A7F0-42F314AF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E055-16DF-4D45-A625-05864FC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7B4-9394-4C9F-B019-F8554799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837-C6E8-4024-9589-8A8E0369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3B9E-3DAA-4A37-9237-6C4868B1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7EF-FC67-42D0-8C47-190304C1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112DE-51CF-4D7C-B504-AF4926E39B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