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6769"/>
        <c:axId val="52640897"/>
      </c:barChart>
      <c:catAx>
        <c:axId val="3956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40897"/>
        <c:crosses val="autoZero"/>
        <c:auto val="1"/>
        <c:lblAlgn val="ctr"/>
        <c:lblOffset val="100"/>
        <c:noMultiLvlLbl val="0"/>
      </c:catAx>
      <c:valAx>
        <c:axId val="52640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6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A85-59A7-4362-924F-A968A357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685-7E00-486D-BC53-CBF06AB3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BEA-7ACF-4F19-94A6-1ADB5CEC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6F0-4927-4E3B-8639-60114089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008-9BCC-4251-BBCB-2BC1F37E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742-2714-4ECF-833C-86758371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011-7333-441F-ADC6-02B9CFBC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EC2-7E0D-4B96-AD0A-C18C612C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7A4-E512-4832-9A10-D6761168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18A-312D-46AD-8C24-F5E4585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318-6FCE-4284-8960-AF4BA90D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853-41ED-40F4-B742-A8D5D3A2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69FDB-162D-4CB1-BB04-95BE0A6F10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