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588759"/>
        <c:axId val="67982413"/>
      </c:barChart>
      <c:catAx>
        <c:axId val="585887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82413"/>
        <c:crosses val="autoZero"/>
        <c:auto val="1"/>
        <c:lblAlgn val="ctr"/>
        <c:lblOffset val="100"/>
        <c:noMultiLvlLbl val="0"/>
      </c:catAx>
      <c:valAx>
        <c:axId val="679824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887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D6C2-436D-436C-AAAA-1606697F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0D1E-2DC1-485B-ABE2-C02AD9E2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359F-882E-48A9-82FD-9939DFFE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35A6-7488-422B-9687-C98DCD9B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25E7-1C96-4299-A60B-4846780B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FDAB-1F7A-4774-867F-1373600A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1F02-9EBA-4F28-A049-1BCFDB4A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3CDC-0CEB-4063-877E-FA8BD81E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6E92-C93C-4E5C-AE73-52AB9C78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2F39-7FCA-4D5D-A003-2AEFD241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DD08-D489-4EFC-BC44-ACAA2419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78ED-74B6-49DF-B38D-F798FAAD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E7EEA-DD62-4E09-8324-ACEBAB4B81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