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27996"/>
        <c:axId val="29523175"/>
      </c:barChart>
      <c:catAx>
        <c:axId val="85827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23175"/>
        <c:crosses val="autoZero"/>
        <c:auto val="1"/>
        <c:lblAlgn val="ctr"/>
        <c:lblOffset val="100"/>
        <c:noMultiLvlLbl val="0"/>
      </c:catAx>
      <c:valAx>
        <c:axId val="29523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27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E73-7E33-4109-842F-4768FA34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F96-9424-4C50-A512-DA6003BD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F7B-9B61-4116-A3BE-C2E28BF3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1E3-DA7F-43E3-ADC3-02449C78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156-243F-4BD2-9C01-978CE1D8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AB3-8508-4410-B341-D3B92BA5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33F-44C2-4D87-8906-6BB3C2D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D0F-FCA8-476D-BBBE-33BA7055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A02-ED0E-421A-9AE7-A8071E6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005-6ED5-4A73-A188-CD147E1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F52-4E04-4346-93D6-896021D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56E-A346-41D5-9B8B-C401288E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AED12-FDF8-4E2F-B73C-0BC6CA5033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