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19134"/>
        <c:axId val="14259992"/>
      </c:barChart>
      <c:catAx>
        <c:axId val="82419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9992"/>
        <c:crosses val="autoZero"/>
        <c:auto val="1"/>
        <c:lblAlgn val="ctr"/>
        <c:lblOffset val="100"/>
        <c:noMultiLvlLbl val="0"/>
      </c:catAx>
      <c:valAx>
        <c:axId val="14259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19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12F-4442-4F9F-AF7B-B6DC7988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0D2-E6EF-4373-AACF-E92F65E3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810-74C6-4A27-985D-BF19217A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B37-A90C-4832-9C30-1F5B9979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B58-6A0F-4EE2-B92E-CA0E7F60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AB4-68EC-4864-BDAE-F6563732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09D-4581-4ED2-9BDB-773F3CD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62C-65D1-4967-9024-9C423C3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A94-3D32-44FE-97A7-B74A43D8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5A3-D8E8-45F9-B5E4-F9766AF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AA6-F6C8-4496-ACC4-5913B21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E56-0E5A-4BA9-BB05-54459CD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567F0-693E-4D15-BE71-163625C732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