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77692"/>
        <c:axId val="74832687"/>
      </c:barChart>
      <c:catAx>
        <c:axId val="88577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32687"/>
        <c:crosses val="autoZero"/>
        <c:auto val="1"/>
        <c:lblAlgn val="ctr"/>
        <c:lblOffset val="100"/>
        <c:noMultiLvlLbl val="0"/>
      </c:catAx>
      <c:valAx>
        <c:axId val="74832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77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AE2-545A-4BC3-95D5-D05F663D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628-BCB5-4B9F-8AE0-2AE65A91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B41-1420-4DB2-9D90-ACE871E5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194-2B74-4597-AC1C-0BE74BAC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196-6CEC-4650-B8F2-1EE6AD60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03A-C4B3-4FC3-A199-30CD60D1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FA7-533A-47F6-8303-57082325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D86-8156-48F0-819E-FDB98107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A15-38BC-42A1-8922-A2B6C751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55C-4744-426B-A21E-1CFE8DFF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558-195F-4BA1-A504-8E50EED8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D67-BD92-4B0C-A2B1-ABA3DE38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854E6-5C29-49CB-B3D0-CC373B701B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