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654092"/>
        <c:axId val="31776050"/>
      </c:barChart>
      <c:catAx>
        <c:axId val="926540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76050"/>
        <c:crosses val="autoZero"/>
        <c:auto val="1"/>
        <c:lblAlgn val="ctr"/>
        <c:lblOffset val="100"/>
        <c:noMultiLvlLbl val="0"/>
      </c:catAx>
      <c:valAx>
        <c:axId val="317760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540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F12E-5F18-4C50-A5C5-F0338026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607F-9DD6-45F8-A8C4-325239C7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D639-599C-4FF8-8863-811E6051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F4DF-6602-4E47-ACE8-F8A36EFA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E293-6660-4B0A-AB2E-90B7CD40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4A9F-E256-4F84-B0EB-9C3236B8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3423-D867-462B-8BF7-FEBF9CC3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FEAC-41AC-4DA2-A765-9E6BE9E8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CA78-ED96-45F5-800C-1F3E9C28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2B71-6F15-41BF-9534-093101BE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D827-7949-4BDE-B5A9-50A77AF6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AB84-F97D-47A5-9A85-B1FEF27A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87948-4148-4E01-B95B-DCE9ED6AFD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