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41624"/>
        <c:axId val="24723831"/>
      </c:barChart>
      <c:catAx>
        <c:axId val="365416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23831"/>
        <c:crosses val="autoZero"/>
        <c:auto val="1"/>
        <c:lblAlgn val="ctr"/>
        <c:lblOffset val="100"/>
        <c:noMultiLvlLbl val="0"/>
      </c:catAx>
      <c:valAx>
        <c:axId val="24723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416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89D-A74D-4089-8579-F71ADDD6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969-04F0-4E1D-8BB5-A6280E7A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7B7-0451-4BD8-A7FB-725E4037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909-B397-4421-8951-565ED821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ACD-C984-4763-A005-9DC26A52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100-8903-4CE7-8578-ADE9B90C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48D-86FC-4200-B2A3-66DEC58D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E05-15A0-445F-944A-79350641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464-18EC-4D9A-911B-5D72FADA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B77-FD03-4F52-9B3D-24B1491F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206-D1E3-47EC-A62D-6749B350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F65-0719-4A6F-8C6E-6674A347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76784-113D-4B0B-BF43-5F54FCA260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