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07407"/>
        <c:axId val="82576866"/>
      </c:barChart>
      <c:catAx>
        <c:axId val="92074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76866"/>
        <c:crosses val="autoZero"/>
        <c:auto val="1"/>
        <c:lblAlgn val="ctr"/>
        <c:lblOffset val="100"/>
        <c:noMultiLvlLbl val="0"/>
      </c:catAx>
      <c:valAx>
        <c:axId val="825768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74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91E1-A0FF-433B-95A9-59FB2D53C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02B9-4D97-4603-8556-995B00DE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B1B5-7723-4F51-A010-5AF4D348D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F63B-B7B4-457B-A898-AA5FAEE1C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0552-A82E-4E57-AD70-DEAF39F2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90C3-490D-45C4-A2B7-2ECDA0E6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F298-6F93-4440-AA7B-E79B7DA3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93D2-D2D3-446A-876B-AADFE065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80D1-495B-4215-9572-F3094D8D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7AF1-C69A-4110-83D5-6D2D0471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234E-293B-4520-A172-C8828113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3B82-A7B0-470D-8150-9C1840E5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2F7BB-970D-46D0-AED7-FB91C9602F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