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73817"/>
        <c:axId val="78046960"/>
      </c:barChart>
      <c:catAx>
        <c:axId val="25073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6960"/>
        <c:crosses val="autoZero"/>
        <c:auto val="1"/>
        <c:lblAlgn val="ctr"/>
        <c:lblOffset val="100"/>
        <c:noMultiLvlLbl val="0"/>
      </c:catAx>
      <c:valAx>
        <c:axId val="78046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73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74D-2B1B-4F57-A821-A7CB534D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9E3-FF6D-4BAC-94C1-EF833995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422-3A16-4432-A74E-8835EC31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E4F-5B78-4BBD-A619-CEEB3BE3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098-6819-4BEA-85ED-FCD53CF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CC8-7223-437E-BA22-46478088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797-8DC7-45EC-A4D1-DBDF7E6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0AF-D12D-4557-A236-6A2D9ED3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2DC-FA5C-4068-90F3-74E1A1FF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FA0-FAFC-4D0E-B721-7D6A316C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561-E943-4B85-9610-165A5AA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628-C1F8-451F-8DD6-74061E0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ED06A-1B7B-40FD-8644-3D81B8EC29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