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8604"/>
        <c:axId val="82608511"/>
      </c:barChart>
      <c:catAx>
        <c:axId val="4668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8511"/>
        <c:crosses val="autoZero"/>
        <c:auto val="1"/>
        <c:lblAlgn val="ctr"/>
        <c:lblOffset val="100"/>
        <c:noMultiLvlLbl val="0"/>
      </c:catAx>
      <c:valAx>
        <c:axId val="82608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8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E07-2C6E-4B97-8450-68F2AB78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616-0F23-401C-A557-56538AE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EDE-A5DF-41E8-8A5A-37FCF050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6C7-5866-4F18-8517-B9F4944B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69E-385B-45B5-AC1B-5100150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608-4FE3-4472-81BA-F0E36260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3E4-332E-42A6-80D9-D24F556E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9F5-AF5D-4752-B4D2-09B65E0A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472-F6ED-4CE2-A1F7-BB0F0A37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689-D85F-4405-A732-62EB905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989-B027-4A6A-914F-773154C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1A0-D83F-476B-A1A9-3FC66DA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C990-0D37-4935-B388-82DC2D6293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