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0093"/>
        <c:axId val="83310231"/>
      </c:barChart>
      <c:catAx>
        <c:axId val="4290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10231"/>
        <c:crosses val="autoZero"/>
        <c:auto val="1"/>
        <c:lblAlgn val="ctr"/>
        <c:lblOffset val="100"/>
        <c:noMultiLvlLbl val="0"/>
      </c:catAx>
      <c:valAx>
        <c:axId val="83310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0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9D6-0BF7-44AE-AF9C-DDD6149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99A-9992-4ABD-A460-20AD849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820-862F-4910-ACC7-09B4FC3D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4E1-FB9A-4F05-A30A-24DE9C5E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730-2D3C-457F-AC79-710F381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5A7-91C6-433C-BD81-14C1EC7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3F1-C6D9-4CF7-ACBA-DD7411C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54C-B5BC-47A4-AC5C-3FB789F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5D8-FBE9-4119-86F2-888BB77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C05-88C1-4985-9507-4E2994C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29C-60A0-4A5B-B6DE-3C07D9C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803-465D-49AE-9F4B-A5E9706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2B11A-20C2-45E2-81ED-9E9847F665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