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689469"/>
        <c:axId val="74563926"/>
      </c:barChart>
      <c:catAx>
        <c:axId val="186894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63926"/>
        <c:crosses val="autoZero"/>
        <c:auto val="1"/>
        <c:lblAlgn val="ctr"/>
        <c:lblOffset val="100"/>
        <c:noMultiLvlLbl val="0"/>
      </c:catAx>
      <c:valAx>
        <c:axId val="745639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894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E644-2314-4E80-8912-37CA2146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6BD0-6BCC-4712-ACE8-2A236EBD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0462-41C5-4A13-B319-F4B4ABCA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4FB0-8377-4772-B00B-EDA0A0AA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3CF9-37AC-4548-91D3-50657BE2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BF82-264F-4BC7-8575-E1701106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3633-F5C3-44D6-B88A-D400945F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C0B6-863B-4C5B-96E5-B817283A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F238-5A95-4517-B305-F7EDDA28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779C-EA34-4C8A-A7CF-E1BF5B85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2DEF-DE2B-4BD2-B904-CFE5425E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C11D-8B69-4396-9BE2-187FABB0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EF95E-1DA4-4BE9-97B0-06A60C9982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