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86890"/>
        <c:axId val="23102872"/>
      </c:barChart>
      <c:catAx>
        <c:axId val="60986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02872"/>
        <c:crosses val="autoZero"/>
        <c:auto val="1"/>
        <c:lblAlgn val="ctr"/>
        <c:lblOffset val="100"/>
        <c:noMultiLvlLbl val="0"/>
      </c:catAx>
      <c:valAx>
        <c:axId val="23102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86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5E2-3049-4032-8D5F-AC2AE7E4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F62-97BB-4D30-BD72-D4BCBEAD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A37-FD2A-44CB-B638-4007CF15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127-F835-4D52-B354-51E006AA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AC5-B376-4ECC-9308-D5DF8714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438-D2D2-4146-9D0F-1B9E964A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E6E-0107-4CA3-8000-C1C63443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46C-AADA-4A02-A0D6-79308BCB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734-78BF-4BD3-89B9-C39D5445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119-8D4D-4F6E-9202-4F33121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441-9C3E-40E1-8919-045C6EC3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79E-5A56-45BB-9805-28D2D31B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01C82-AB88-4622-B737-B22D0222A9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