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47896"/>
        <c:axId val="53231118"/>
      </c:barChart>
      <c:catAx>
        <c:axId val="62447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231118"/>
        <c:crosses val="autoZero"/>
        <c:auto val="1"/>
        <c:lblAlgn val="ctr"/>
        <c:lblOffset val="100"/>
        <c:noMultiLvlLbl val="0"/>
      </c:catAx>
      <c:valAx>
        <c:axId val="532311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47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693-D928-4FA9-9884-5B68A691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551-9F9E-4F7B-97FA-C714804D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2C2-22AB-4799-BF30-B6EB9E0E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81E8-59F6-4E92-9D6F-8FE335926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2B66-87EA-4DE6-AD73-BF3623FF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172-8134-49BF-922D-98D4EF26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90C-7D52-4D64-A4C6-31802C28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F39A-8508-4741-A380-F0C0EC7A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475-5492-4141-A541-41773858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E711-992A-4504-A163-33F4DDE8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400-42B5-4935-9F62-D25853FE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FC74-DD6E-4E49-9AA5-886D8ECF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0E3B0-1877-4490-AF1E-CA52A53CE6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