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19665"/>
        <c:axId val="17246834"/>
      </c:barChart>
      <c:catAx>
        <c:axId val="13719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46834"/>
        <c:crosses val="autoZero"/>
        <c:auto val="1"/>
        <c:lblAlgn val="ctr"/>
        <c:lblOffset val="100"/>
        <c:noMultiLvlLbl val="0"/>
      </c:catAx>
      <c:valAx>
        <c:axId val="17246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19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189-88B4-473A-88B4-C9EDD265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B15-546C-434E-AE1F-899DF8EC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E44-A319-4AA5-8EC7-8F10FDC3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BA2-3FFE-4438-9B05-E9ECBCC0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7DC-04E5-4E1E-A3FF-E97CBA28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1AB-F1A6-4027-A6B8-9BF9DDE7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511-7AEA-4A98-B533-56580507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909-C160-4B9D-8ECD-FE767FFC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384-C3E8-49AE-993F-C3DFC203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90A-77C9-4115-BD7A-5E002AEA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BF1-E055-432A-90BB-D324302F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86A-619A-45E5-930C-A0B1479C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C7453-8611-4A83-9E9B-CC9F1096D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