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85161"/>
        <c:axId val="78759368"/>
      </c:barChart>
      <c:catAx>
        <c:axId val="75385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59368"/>
        <c:crosses val="autoZero"/>
        <c:auto val="1"/>
        <c:lblAlgn val="ctr"/>
        <c:lblOffset val="100"/>
        <c:noMultiLvlLbl val="0"/>
      </c:catAx>
      <c:valAx>
        <c:axId val="78759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5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8DA-2FC2-4F69-BA0E-6BDB32CB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513-03B3-48AA-89A9-15CB3D29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4A1-07BC-461F-B5A3-61B4E192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898-8672-40C0-93A9-D907AF4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C75-5D43-4B89-84B0-200D5B5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2BF-FC5E-42D9-BD79-1427A1A7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CE7-8F42-4B6D-A086-8F56D272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369-934C-4D87-BB87-BE35C5A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695-D348-4F13-9D27-591DAA6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263-E6F4-460D-9F6E-1F6300B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A3D-EA0E-4A7C-A51A-D5187A6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756-38A1-458C-ABE4-E5750F5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2227F-6A75-49D3-B999-8B80DF5F6A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