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04736"/>
        <c:axId val="28125811"/>
      </c:barChart>
      <c:catAx>
        <c:axId val="72904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25811"/>
        <c:crosses val="autoZero"/>
        <c:auto val="1"/>
        <c:lblAlgn val="ctr"/>
        <c:lblOffset val="100"/>
        <c:noMultiLvlLbl val="0"/>
      </c:catAx>
      <c:valAx>
        <c:axId val="28125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4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60E-3151-4FDE-BA9D-AA50CF42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93C-926C-4415-8CD3-AB050F37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EF9-8F07-4695-863F-B89B9789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13E-9E89-4E12-B7C7-834BBC70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390-23BA-44E3-8582-795392F7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377-9C3F-4430-B8B6-D3745DB3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AEC-7DEC-4D76-A7A6-082C89A9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598-60D0-4AC7-BEB1-966EE701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0B6-5C91-445B-A1DA-8E74C75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D98-4F9A-4FEC-BFAF-73D49230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CEB-19D7-4F8E-B59A-E139AAE8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D83-4323-4B14-8E35-7052B83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3474B-A806-4AD4-B19A-5AA853086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