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8522"/>
        <c:axId val="5439299"/>
      </c:barChart>
      <c:catAx>
        <c:axId val="8068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9299"/>
        <c:crosses val="autoZero"/>
        <c:auto val="1"/>
        <c:lblAlgn val="ctr"/>
        <c:lblOffset val="100"/>
        <c:noMultiLvlLbl val="0"/>
      </c:catAx>
      <c:valAx>
        <c:axId val="5439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8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90DC-CF72-4599-A0F8-5F1966CE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86F-3F13-4DC8-86CE-D79E01F7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F1F-851B-4E37-AFB1-73EEF3F8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BD80-645F-4ACF-B689-1EC8AE9B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523-5422-4496-9BC2-FE2DAB34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64D-9898-4A67-9933-56189A08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0A8-C5AD-4428-A095-FA9E02D0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A34C-90B7-4825-A1C5-A9EA786B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793C-EAC1-4182-8F79-F9314606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88C-4D7B-4625-823D-80ADB9F9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EAC1-FF3D-4225-A355-99DE9C52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DE9-53DA-43DB-BCF7-77F7565A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3AD60-9C6E-4971-92A1-61AB17916F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