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1E01E4-511D-44D2-8F38-D79A620C81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CC53CB-BD49-47FB-833E-254491181E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C9D5A7-880D-40E4-B911-48E327E8F4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764E85-F143-49F5-AC67-5868B5E049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E7DA35-6442-4544-8484-CC4F9C55EA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AD01AF-552A-4316-BCC7-5AEB7766D6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A274FB-B94A-4283-AAAC-1A43DEF4FB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E51938-2CF0-456B-A6DA-DA0E7BEFE4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520247-8965-4392-87D9-3410ACAA49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E336C9-7EF2-4779-B199-3A8DF8FD7B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FC5846-2689-4B93-8879-6E6B34780D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0A8437-4B6B-4E5A-A9B6-9DBAD9BD02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556D6-A1AD-427A-B455-D2C5610E358B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5f5f5f"/>
                </a:solidFill>
                <a:latin typeface="Century Gothic"/>
              </a:rPr>
              <a:t>Click to edit the outline text format</a:t>
            </a: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  <a:p>
            <a:pPr lvl="1" marL="457200" indent="0" algn="ctr"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38080" y="1981080"/>
            <a:ext cx="80773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5400"/>
            </a:br>
            <a:r>
              <a:rPr b="1" i="1" lang="en-US" sz="5400" spc="-1" strike="noStrike">
                <a:solidFill>
                  <a:srgbClr val="990000"/>
                </a:solidFill>
                <a:latin typeface="Century Gothic"/>
                <a:ea typeface="ＭＳ Ｐゴシック"/>
              </a:rPr>
              <a:t>	</a:t>
            </a: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9480" y="4191120"/>
            <a:ext cx="42674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2209680" y="52704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2704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3657600" y="5334120"/>
            <a:ext cx="1752480" cy="76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2" name=""/>
          <p:cNvGraphicFramePr/>
          <p:nvPr/>
        </p:nvGraphicFramePr>
        <p:xfrm>
          <a:off x="5715000" y="5334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334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4343400" y="4191120"/>
            <a:ext cx="42670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ndy Clement, George Harl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 Lab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6"/>
          <a:stretch/>
        </p:blipFill>
        <p:spPr>
          <a:xfrm>
            <a:off x="6477120" y="533520"/>
            <a:ext cx="2133360" cy="1731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9C40A7-55F6-4AFA-A0A4-14CE72A23374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ngineering challenge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tight integration with the JD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s expect advanced feat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ger pars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the Java model is not inherently exten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DBAE52-3539-40DA-ACEB-86D28A5D8B12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ancaster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ger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cument outline upda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nt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e 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bu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and run to break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0C5CF2-F9BB-4D93-9785-50E54832470A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3. new crosscutting views</a:t>
            </a:r>
            <a:endParaRPr b="1" i="1" lang="en-US" sz="36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4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istening to user feedback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6868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working with large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ynamic effects of crosscutting can be un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osition of advice can be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cipatory 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I design page and bugzilla reports linked from </a:t>
            </a:r>
            <a:r>
              <a:rPr b="0" lang="en-US" sz="2800" spc="-1" strike="noStrike" u="sng">
                <a:solidFill>
                  <a:srgbClr val="666699"/>
                </a:solidFill>
                <a:uFillTx/>
                <a:latin typeface="Arial"/>
                <a:ea typeface="ＭＳ Ｐゴシック"/>
              </a:rPr>
              <a:t>http://eclipse.org/ajd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4572000"/>
            <a:ext cx="86868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636563"/>
                </a:solidFill>
                <a:latin typeface="Arial"/>
              </a:rPr>
              <a:t>I wasn't seeing an advice being executed and the that part of code was little unfamiliar to me. So I had to perform a search to find out the subaspects. If I had the proposed feature, navigating to those aspects would be so much easier. </a:t>
            </a:r>
            <a:r>
              <a:rPr b="0" lang="en-US" sz="2400" spc="-1" strike="noStrike">
                <a:solidFill>
                  <a:srgbClr val="636563"/>
                </a:solidFill>
                <a:latin typeface="Arial"/>
              </a:rPr>
              <a:t> Bugzilla report 509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CCF6C3-246B-4E0F-9288-D83FA0948C25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3505320" y="2666880"/>
          <a:ext cx="5457600" cy="393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3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3429000" y="2612880"/>
          <a:ext cx="5541840" cy="398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41840" cy="398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6" name=""/>
          <p:cNvGrpSpPr/>
          <p:nvPr/>
        </p:nvGrpSpPr>
        <p:grpSpPr>
          <a:xfrm>
            <a:off x="660240" y="1596960"/>
            <a:ext cx="7315200" cy="790560"/>
            <a:chOff x="660240" y="1596960"/>
            <a:chExt cx="7315200" cy="790560"/>
          </a:xfrm>
        </p:grpSpPr>
        <p:sp>
          <p:nvSpPr>
            <p:cNvPr id="157" name=""/>
            <p:cNvSpPr/>
            <p:nvPr/>
          </p:nvSpPr>
          <p:spPr>
            <a:xfrm>
              <a:off x="660240" y="193032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269720" y="159696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will the advice appl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7C726E-E853-4C22-99A2-7649199A4C77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660240" y="1574640"/>
            <a:ext cx="7315200" cy="790560"/>
            <a:chOff x="660240" y="1574640"/>
            <a:chExt cx="7315200" cy="790560"/>
          </a:xfrm>
        </p:grpSpPr>
        <p:sp>
          <p:nvSpPr>
            <p:cNvPr id="163" name=""/>
            <p:cNvSpPr/>
            <p:nvPr/>
          </p:nvSpPr>
          <p:spPr>
            <a:xfrm>
              <a:off x="660240" y="190800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269720" y="157464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w as graph 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Eclipse call grap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3505320" y="2666880"/>
          <a:ext cx="5457600" cy="392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2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3429000" y="2612880"/>
          <a:ext cx="5533920" cy="3983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33920" cy="398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FF7131-7F64-4C06-B34B-F5EB94750C8E}" type="slidenum">
              <a:t>15</a:t>
            </a:fld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ultiple advice at same join poin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my system has many aspec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their order of execution is releva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declar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precedenc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: Debug, Coordinato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609480" y="2819520"/>
            <a:ext cx="7696440" cy="374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CC77CC-1365-4069-B676-2F61EC28D673}" type="slidenum">
              <a:t>16</a:t>
            </a:fld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380520" y="51051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structure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75" name=""/>
          <p:cNvSpPr/>
          <p:nvPr/>
        </p:nvSpPr>
        <p:spPr>
          <a:xfrm>
            <a:off x="380880" y="5791320"/>
            <a:ext cx="86108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wrap-u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tensibility and contribution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source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APIs for IDE plugins and 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 need contribu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 and views can be reu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52280" y="4041720"/>
          <a:ext cx="8763120" cy="243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4041720"/>
                    <a:ext cx="8763120" cy="243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BC9B87-9421-438E-8567-236332CBB592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Erik Hilsdale, Jim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gunin, 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Andy Clement, M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sten and 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AspectJ in Action"/>
          <p:cNvPicPr/>
          <p:nvPr/>
        </p:nvPicPr>
        <p:blipFill>
          <a:blip r:embed="rId1"/>
          <a:stretch/>
        </p:blipFill>
        <p:spPr>
          <a:xfrm>
            <a:off x="6775560" y="1790640"/>
            <a:ext cx="2063520" cy="247644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6095880" y="441972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EF5A34-3472-4B27-ACA9-870D76C05AA1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560" y="3428640"/>
            <a:ext cx="8839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1. aspectj tools suite</a:t>
            </a:r>
            <a:endParaRPr b="1" i="1" lang="en-US" sz="40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304560" y="5181480"/>
            <a:ext cx="7551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98" name=""/>
          <p:cNvSpPr/>
          <p:nvPr/>
        </p:nvSpPr>
        <p:spPr>
          <a:xfrm>
            <a:off x="304920" y="4419720"/>
            <a:ext cx="76197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C6ACC1-ABFC-4F92-9748-63D66C09CFEE}" type="slidenum">
              <a:t>20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1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0B95D8-64EB-47B1-BDA4-F4A7D352056F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build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E8AEF7-E6F1-40C2-B70F-73A21CB22126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etbeans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6C40E9-E1FE-4898-9DE3-7325E78D50AF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jbrows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A918F5-D149-4021-9EC7-4CD24AB10134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mac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48EF2D-A0B0-40A3-A766-00F52D156FCB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lipse (up to 3.0m4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A13CBC-E3A8-4FF6-9D3A-BE7AA4625187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38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2. next generation ajd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03-25T15:08:41Z</dcterms:modified>
  <cp:revision>500</cp:revision>
  <dc:subject/>
  <dc:title>Aspect-Oriented Programming with AspectJ</dc:title>
</cp:coreProperties>
</file>