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423919"/>
        <c:axId val="43893719"/>
      </c:barChart>
      <c:catAx>
        <c:axId val="204239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893719"/>
        <c:crosses val="autoZero"/>
        <c:auto val="1"/>
        <c:lblAlgn val="ctr"/>
        <c:lblOffset val="100"/>
        <c:noMultiLvlLbl val="0"/>
      </c:catAx>
      <c:valAx>
        <c:axId val="438937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4239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F49D-BA35-4198-8192-3C088D2A3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48AE-6705-49F6-BBBC-75C9877FA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DDF1-90B9-401A-9F17-7936B8CCD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57F7-7AF7-4826-8DBB-2CF73C264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A33A-ED18-4E9D-9917-6C4F90E18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BCE7-A71D-4444-960E-4BF03B7E4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26BE-4FC7-481D-848C-EAC7BDDE7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FBEF-AD03-447A-92CF-5F1753B5E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9EFC-C688-4F91-BBAF-A26275D16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0547-34E1-4EC4-A4A3-2EAA7F60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5902-9CA4-4586-BC6B-0429CA58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361D-192A-46F9-8ACC-BB641D5E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296C04-C2D6-4A19-B2E2-0FDDA83271F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