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28094"/>
        <c:axId val="15111331"/>
      </c:barChart>
      <c:catAx>
        <c:axId val="26628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11331"/>
        <c:crosses val="autoZero"/>
        <c:auto val="1"/>
        <c:lblAlgn val="ctr"/>
        <c:lblOffset val="100"/>
        <c:noMultiLvlLbl val="0"/>
      </c:catAx>
      <c:valAx>
        <c:axId val="15111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28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D8B-4BB6-411B-BD78-2ED63664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1D8-9097-4521-814B-1FD4EB4A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8BA-53A0-42E4-873D-AEA0A88D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D7F-9AE1-4004-8D3B-91CC3866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600-84B2-4741-9209-4B8FA404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F42-FA6D-43F7-A950-1FF8FBE0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A1C-A2A9-4F08-9CDB-C13A979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2E4-E78E-4E60-B52C-896250C0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01D-F9F3-4526-8229-7BD52084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E09-B915-4A1F-AFAE-FC8A45E9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76B-B4C9-467E-9E4B-16F440B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EFA-C9DE-4859-9F4E-70F769F6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7CCDD-7CB4-49DF-B680-C291C5A7B9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