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23020"/>
        <c:axId val="77814822"/>
      </c:barChart>
      <c:catAx>
        <c:axId val="1923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14822"/>
        <c:crosses val="autoZero"/>
        <c:auto val="1"/>
        <c:lblAlgn val="ctr"/>
        <c:lblOffset val="100"/>
        <c:noMultiLvlLbl val="0"/>
      </c:catAx>
      <c:valAx>
        <c:axId val="778148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3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0BF8-2E2B-4297-AA5F-76A1324B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61C-84F6-4A5A-BB12-43CDE3C8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9D63-C2AE-4526-A546-68BCBF86B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BF2-58EA-400F-B593-A5CF8BC3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098D-F0F3-499B-9BBB-EAA054DC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3253-E1A0-439C-8954-DD5518F1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F04-7B82-409D-9E01-7BF12DE2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5FA-C4A0-40D2-9530-A6ED748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ADE4-4208-4BAA-A1B4-C97E27A1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F1D-5AEF-4B70-B639-C8C8E50FD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9E27-EDC6-435E-8732-66A2F0E2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D6EA-E1BE-47DC-8872-44676514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8B481-2AB5-449F-8197-68D7B02222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