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62469"/>
        <c:axId val="84322952"/>
      </c:barChart>
      <c:catAx>
        <c:axId val="87562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22952"/>
        <c:crosses val="autoZero"/>
        <c:auto val="1"/>
        <c:lblAlgn val="ctr"/>
        <c:lblOffset val="100"/>
        <c:noMultiLvlLbl val="0"/>
      </c:catAx>
      <c:valAx>
        <c:axId val="84322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62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BBD-52F1-494E-81BD-4C7E425E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535-0830-48A3-B260-3404C396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79E-F99D-4CB9-BB9F-8881FE91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EC4-C2B1-4032-BD1F-8F610A5E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18A-080A-46FF-83D0-12611003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C2A-3958-4F12-8051-0CB3CFBF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74D-4226-41CA-B9B0-64F82A18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575-799F-43DC-AC90-9C674561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EA7-3A44-4FA3-8348-3DF8F663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A3E-B75D-45DC-8156-AEA371ED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57F-AAFC-4C63-9F91-965F247F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E04-CC99-41DD-BB57-159CAF91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43627-B2C5-4AA4-878B-24425A7CB4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