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99304"/>
        <c:axId val="41976263"/>
      </c:barChart>
      <c:catAx>
        <c:axId val="570993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76263"/>
        <c:crosses val="autoZero"/>
        <c:auto val="1"/>
        <c:lblAlgn val="ctr"/>
        <c:lblOffset val="100"/>
        <c:noMultiLvlLbl val="0"/>
      </c:catAx>
      <c:valAx>
        <c:axId val="41976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993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877-F4AE-4CAA-95A7-9E202A06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48CA-7774-4A1A-8124-F7879F89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F09-7915-43C3-A439-67DE2959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F5A-CC33-4206-8E54-C6E1F527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9A1-383B-4002-BBF4-CFA458FF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2C3E-6B22-4687-96CD-70625125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3484-F482-45DF-B1A0-07AC1817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B12-FD4F-4F7C-9225-EA510C34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88C-42D4-4063-921D-F9DF8B98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944D-E8B1-49A3-82B6-DD3E97F7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B61C-2E9D-4120-9761-C1EDF3B1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C83-2BD7-4BED-A5E5-EA6514D9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A2C0C-5DA2-44AD-BF11-B7D90318E5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