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7972"/>
        <c:axId val="14768164"/>
      </c:barChart>
      <c:catAx>
        <c:axId val="3157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68164"/>
        <c:crosses val="autoZero"/>
        <c:auto val="1"/>
        <c:lblAlgn val="ctr"/>
        <c:lblOffset val="100"/>
        <c:noMultiLvlLbl val="0"/>
      </c:catAx>
      <c:valAx>
        <c:axId val="14768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7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7FA-AC00-4E80-A44A-BFCE6FBA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3BD-2D18-40A5-B7A0-3A2EB5BC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652-18E7-4A34-8EAE-B01FE07A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3C4-C5C1-446B-9A34-820CF61D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6EB-438B-4690-857A-95B177C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68E-7ED1-40F8-8AE3-B2F4477B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AB7-59C2-49E9-B958-883077BC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E63-571A-43BF-A92E-648850C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F7C-97CA-488D-B0EA-AC8CE204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28F-6B3F-49EE-9E8E-90F7468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AAF-5EE9-4B08-93E7-EF9659D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539-FC25-4C68-8072-993A7E0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17A76-778D-4630-B475-660AC481F3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