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52094"/>
        <c:axId val="13435798"/>
      </c:barChart>
      <c:catAx>
        <c:axId val="38152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35798"/>
        <c:crosses val="autoZero"/>
        <c:auto val="1"/>
        <c:lblAlgn val="ctr"/>
        <c:lblOffset val="100"/>
        <c:noMultiLvlLbl val="0"/>
      </c:catAx>
      <c:valAx>
        <c:axId val="13435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2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137-8961-46E5-8610-38781361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9EB-ECB5-417F-AE0F-0FC93B3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1E1-3499-42F3-92B2-F9BCEC2E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F7D-D226-48E2-AEBF-3187B5DB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50A-B6BB-4D5D-AF84-98A26D8B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BA0-6E78-4C90-BBED-25CC59C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42C-B051-49DF-9C8A-B7AB04DA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1FD-1507-421C-BEB8-16D5A1B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DD4-F02D-4322-BA0F-CD6CCB3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FA2-C922-4EEC-BDBE-0264075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D16-F6C2-47CD-9A76-5B88941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B1E-091B-44A3-84CF-67617A0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F7F6C-9840-4D5B-95BA-FCB2EEEB8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