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18076"/>
        <c:axId val="38030426"/>
      </c:barChart>
      <c:catAx>
        <c:axId val="325180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30426"/>
        <c:crosses val="autoZero"/>
        <c:auto val="1"/>
        <c:lblAlgn val="ctr"/>
        <c:lblOffset val="100"/>
        <c:noMultiLvlLbl val="0"/>
      </c:catAx>
      <c:valAx>
        <c:axId val="380304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180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2818-74B7-40B6-8D98-97F2850C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A50C-B948-41BF-BAAD-5BBF5692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0AC-4CDB-4789-96B7-4E007652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EB6D-8512-4FEE-90CD-4E9FDB6E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8D6-2091-4ECB-8A08-BFABC85C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BBB-6C97-4D65-A830-964F6D6D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DCB0-EEA3-428D-BE3A-B8B55D9F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1FD7-B35E-4C1D-A91E-91A2B301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1E75-1471-41EB-9DA7-51860D04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FCC9-6300-4FF1-AE3A-FEEB0CB7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E09-CCE3-4156-83D0-68D6A66B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E18-2F6C-44EF-A6CE-198CF186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4B0B8-4B13-4268-8DBC-564DA78BB9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